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EF17-D250-4287-B9C1-4462207B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601-7F2B-4570-A9E5-21206D53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8C9-F8A6-4FC1-B2E6-0F3A7223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500E-5D1E-412B-A18C-87C0E70B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02AD-58FC-47BB-8421-46F4A48D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BC56-A41F-49E2-971A-D71EC4F7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4545-1E18-4D67-8B1C-9F12D8E4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D2CF-9F22-45EB-95F2-A374BC1F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E108-974D-4BEE-86AF-19DA2A3E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29A3-5394-4A0B-A3FE-021FFDB5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6CEF-A8A4-4D13-BC30-E1CE3D77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1F1E-3340-4833-A3A5-3AFBB0FD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29FB-FD93-417A-B373-69B5EBB0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4718-29C2-4BF2-A546-B30043A2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F560-5A38-46E7-8D5D-16E2F002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83B9-BE49-4724-B3E7-7EA4501E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3A5D-682F-4B22-8767-2C5414A7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88C-ECEB-4E85-A017-D667B5A6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E91-6D85-478E-A4F1-BEE79968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79B5-3E85-4031-8BA9-9FB3CE71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F55-FCC3-4564-8919-FFFBF38E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AFBA-EE64-4FDC-92BB-834A5527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A9E-B70E-49BB-A7E6-BCF43079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E1B-1703-41C7-88AE-284EA240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610D-4D94-43BD-ACBF-C8B8B5F599C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2ABE-D8BA-4441-9958-8B462DF5F98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ellsalive.com/cells/3dcell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114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Cell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116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are some differences between prokaryotic and eukaryotic cells? 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ive an example of each. 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">
            <a:hlinkClick r:id="rId1"/>
          </p:cNvPr>
          <p:cNvSpPr/>
          <p:nvPr/>
        </p:nvSpPr>
        <p:spPr>
          <a:xfrm>
            <a:off x="3657600" y="464832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1152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042" h="21600">
                <a:moveTo>
                  <a:pt x="1152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042" h="21600">
                <a:moveTo>
                  <a:pt x="8945" y="8224"/>
                </a:moveTo>
                <a:lnTo>
                  <a:pt x="12809" y="8224"/>
                </a:lnTo>
                <a:lnTo>
                  <a:pt x="12809" y="15221"/>
                </a:lnTo>
                <a:lnTo>
                  <a:pt x="14097" y="15221"/>
                </a:lnTo>
                <a:lnTo>
                  <a:pt x="14097" y="16144"/>
                </a:lnTo>
                <a:lnTo>
                  <a:pt x="8945" y="16144"/>
                </a:lnTo>
                <a:lnTo>
                  <a:pt x="8945" y="15221"/>
                </a:lnTo>
                <a:lnTo>
                  <a:pt x="10233" y="15221"/>
                </a:lnTo>
                <a:lnTo>
                  <a:pt x="10233" y="9129"/>
                </a:lnTo>
                <a:lnTo>
                  <a:pt x="8945" y="912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5:11:07Z</dcterms:created>
  <dc:creator>PritchaJ</dc:creator>
  <dc:description/>
  <dc:language>en-US</dc:language>
  <cp:lastModifiedBy>PritchaJ</cp:lastModifiedBy>
  <dcterms:modified xsi:type="dcterms:W3CDTF">2011-06-01T15:15:23Z</dcterms:modified>
  <cp:revision>1</cp:revision>
  <dc:subject/>
  <dc:title>Slide 1</dc:title>
</cp:coreProperties>
</file>